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6CE1128F-4A93-447C-9F1D-A75A5B4D9DA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C894E8DF-8811-416A-9D53-84CDFB12A66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Module: Teaching PSP0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udent Presentations - Evaluation Criteri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8763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good rapport with participants (e.g., faces class, maintains eye contact, call participants by names.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understanding of PSP material; has an acceptable working knowledge of PSP content and applic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acilitates exercises as instructed; provides appropriate guidance for participants; debriefs exercises appropriate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courages participant involvement/intera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tains control of course delivery; pays attention to binning inappropriate topic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onds appropriately and accurately to participant questions; re-frames as necess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materials at a level and rate that enables both participant learning and timely course comple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participant understanding and learn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and maintains participant inter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0 the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ccurate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l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mple time and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basic skills are critical to a student’s success and must be practiced to be understood and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odule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objectives of PSP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recommended approach to teaching PSP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you to participate and learn from teaching demonstrations of selected PSP0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learning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pics covered in PSP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to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0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0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 the use of a defined process in writing small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 basic process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minimal changes to the engineer’s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Objectives for PSP0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ccurate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l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mple time and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quence of exercises and process levels introduces the basic measurement and estimating skills in small, progressive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basic skills are critical to a student’s success and must be practiced to be understood and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7360" y="8568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10 Day / 8 Program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28880" y="1709640"/>
            <a:ext cx="77133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1 – PSP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overview lecture and introductory exerci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roduction to PSP and TSP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PSP0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ndard deviation program assignment (program 1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2 – PSP0.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 measurement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counting standard report assignment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ding standard report assign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PSP0.1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counter program assignment (program 2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631880"/>
            <a:ext cx="7413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y 1 – PSP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overview lecture and introductory exerci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roduction to PSP lect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PSP0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ndard deviation program assignment (PSP0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0.1 is not covered as a separate process leve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 lecture, tutorial, or program for PSP0.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measurement and size accounting are incorporated in the Planning Concepts lecture on day 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P form is introduced with PSP1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nting/coding standard are done on day 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17720" y="1709640"/>
          <a:ext cx="7413480" cy="4659480"/>
        </p:xfrm>
        <a:graphic>
          <a:graphicData uri="http://schemas.openxmlformats.org/drawingml/2006/table">
            <a:tbl>
              <a:tblPr/>
              <a:tblGrid>
                <a:gridCol w="1492200"/>
                <a:gridCol w="2963880"/>
                <a:gridCol w="2957400"/>
              </a:tblGrid>
              <a:tr h="45720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0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follow a defined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llect complete, consistent and accurate time, size, defect, and schedule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and instrument a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evolve a process based on analysis and PIP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9712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1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a defined estimating process with limited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plan status and project likely completion dat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statistical methods improvement their estimates and calculate prediction interv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estimating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2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build personal design and review checklist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nduct a personal review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quality status and project likely final quality levels.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reate designs that are reviewable and verifiable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verify designs using different techniqu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overall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Capstone Exerci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and use personal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work in a team environment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erformance Analysis Repor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identify their strengths and weakness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set challenging and realistic personal improvement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changes required to achieve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1Z</dcterms:modified>
  <cp:revision>213</cp:revision>
  <dc:subject/>
  <dc:title>No Slide Title</dc:title>
</cp:coreProperties>
</file>